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6EF8-A045-473F-B287-E989EAD21B7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y out design example here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CB3B-BD1B-4D8B-863A-0A69C6ECC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48DC-8565-4E2D-9744-1382BBE81C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B4D1-1BAC-45B9-8DBF-27D19EE73A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3D0A-13E1-4972-9B96-660DC25CF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6C04-2D25-4384-B6E2-E75ADC7963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A66A-672E-4425-87A6-3010EDFC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3FB4-CABF-4511-8A48-1BCA4161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7424-3E0B-46DD-B35F-18640097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A081-F7BB-4665-81E7-185843A8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2453-92EA-4DE8-9D6F-C5B3B066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6D83-278F-49AD-81DD-6950AE86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905D-F976-4317-A256-7D1C7188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C53B-7B84-47C3-9430-F7343B08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092D-0CA0-448B-B961-CD60CF31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9D8B-F266-4C8F-953F-E4F11778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F2D8-C421-44AE-B8A6-D2BF3161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4709-E42A-4BD8-9CBD-2BD07463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65B2-46F6-4144-94E9-3FF3BF3F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F29E-CBCD-4560-B201-D73DCB70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6F61-9BD5-4993-A220-770F9189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9C7B-0888-4DB7-9390-C7A53DFD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826B-7CD5-4887-AF73-E9CDBC6C1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A6BA-A1CD-4EC4-B1E0-C4DC2E49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87EC-3AD1-4FE3-AF56-E0E8D406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AE3F-3206-40BA-A34F-91287841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F88E-CB0A-4A8F-B036-39BD69CA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AFD9-F5CD-4736-963B-FA97EDA3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A0C3-2ADB-4625-B329-9A56D9B0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03B6-C4F9-4637-AA68-D53C6E8A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F177-956E-4F6E-8626-1CBFFF12680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DEBA-5D45-4FD6-B3AE-D1E5174D8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500040" y="85716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frica RISING Malawi 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285840" y="3143160"/>
            <a:ext cx="88581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gis Chikowo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zi Mhango, Desta Lulseged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aac Nyoka, Sieg Sna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6929280" y="6000840"/>
            <a:ext cx="1857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8 May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tcheu si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Diagram 1" descr=""/>
          <p:cNvPicPr/>
          <p:nvPr/>
        </p:nvPicPr>
        <p:blipFill>
          <a:blip r:embed="rId1"/>
          <a:stretch/>
        </p:blipFill>
        <p:spPr>
          <a:xfrm>
            <a:off x="1071720" y="1143000"/>
            <a:ext cx="663876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dza s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Diagram 1" descr=""/>
          <p:cNvPicPr/>
          <p:nvPr/>
        </p:nvPicPr>
        <p:blipFill>
          <a:blip r:embed="rId1"/>
          <a:stretch/>
        </p:blipFill>
        <p:spPr>
          <a:xfrm>
            <a:off x="1181160" y="1454040"/>
            <a:ext cx="696276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530280" y="776160"/>
            <a:ext cx="7473960" cy="5878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7557480" y="64882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napp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97280" y="0"/>
            <a:ext cx="765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0"/>
                </a:solidFill>
                <a:latin typeface="Calibri"/>
              </a:rPr>
              <a:t>‘</a:t>
            </a:r>
            <a:r>
              <a:rPr b="0" lang="en-US" sz="4800" spc="-1" strike="noStrike">
                <a:solidFill>
                  <a:srgbClr val="000090"/>
                </a:solidFill>
                <a:latin typeface="Calibri"/>
              </a:rPr>
              <a:t>Mother and baby’ trial des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790092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ther trial treatment structur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400" y="856800"/>
            <a:ext cx="8429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 control – no nutrients add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 fertilized with 70 kg N and 21 kg P [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FULL ra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 fertilized  with NPK compost or manure (3-5 t/ha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ndnut or soyabean or cowpea or pigeon pea fertilized with 5 kg P/ha [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HALF ra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/pigeon pea intercrop fertilized with 70 kg N and 21 kg 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/field bean intercrop fertilized with  70 kg N and 21 kg 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oubled-up legumes A: Pigeon pea/groundnut intercrop fertilized with 5 kg P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oubled-up legumes B: Pigeon pea/soybean intercrop fertilized with 5 kg P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oubled-up legumes C: Pigeon pea/cowpea intercrop fertilized with 5 kg P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2060"/>
                </a:solidFill>
                <a:uFillTx/>
                <a:latin typeface="Calibri"/>
              </a:rPr>
              <a:t>Ration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Calibri"/>
              </a:rPr>
              <a:t>Unfertilized maize – </a:t>
            </a:r>
            <a:r>
              <a:rPr b="0" lang="en-ZW" sz="3200" spc="-1" strike="noStrike">
                <a:solidFill>
                  <a:srgbClr val="002060"/>
                </a:solidFill>
                <a:latin typeface="Calibri"/>
              </a:rPr>
              <a:t>for establishing base yields depending soil resource 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Calibri"/>
              </a:rPr>
              <a:t>Maize + mineral fertilizers NPKS – </a:t>
            </a:r>
            <a:r>
              <a:rPr b="0" lang="en-ZW" sz="3200" spc="-1" strike="noStrike">
                <a:solidFill>
                  <a:srgbClr val="002060"/>
                </a:solidFill>
                <a:latin typeface="Calibri"/>
              </a:rPr>
              <a:t>for establishing water limited yield poten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Calibri"/>
              </a:rPr>
              <a:t>Maize + manure/compost + NPKS </a:t>
            </a:r>
            <a:r>
              <a:rPr b="0" i="1" lang="en-ZW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ZW" sz="3200" spc="-1" strike="noStrike">
                <a:solidFill>
                  <a:srgbClr val="002060"/>
                </a:solidFill>
                <a:latin typeface="Calibri"/>
              </a:rPr>
              <a:t>for establishing water limited yield potential with inorganic -organic nutrient sources combin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by trial formulation and management 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85480" y="1071360"/>
            <a:ext cx="84294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58ed5"/>
                </a:solidFill>
                <a:latin typeface="Calibri"/>
              </a:rPr>
              <a:t>Action groups were formulated around each of the 8 mother trials,  resulting in 2 action groups per intervention si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Action groups comprised of at least 38 farmers, who actively participated in the establishment of the mother trial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Calibri"/>
              </a:rPr>
              <a:t>Action group members subsequently established baby trials based on the following rul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more than 4 treatments were to be selected from the mother trial they had established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eatments were manda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Calibri"/>
              </a:rPr>
              <a:t>Fertilized maize plot  - farmers were not given any fertilizer – they had to source using own resources, including fertilizers from the subsidy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Calibri"/>
              </a:rPr>
              <a:t>Doubled-up legume: selection from any of  those included in the mother t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64008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tails on mother and baby t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714240"/>
          <a:ext cx="8786880" cy="5429520"/>
        </p:xfrm>
        <a:graphic>
          <a:graphicData uri="http://schemas.openxmlformats.org/drawingml/2006/table">
            <a:tbl>
              <a:tblPr/>
              <a:tblGrid>
                <a:gridCol w="828720"/>
                <a:gridCol w="995400"/>
                <a:gridCol w="1468440"/>
                <a:gridCol w="1106280"/>
                <a:gridCol w="1106640"/>
                <a:gridCol w="1093680"/>
                <a:gridCol w="1094040"/>
                <a:gridCol w="1093680"/>
              </a:tblGrid>
              <a:tr h="7765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stri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on sites (EP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ther trial host farm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ze varieties 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p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igeon p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ndn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yb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 rowSpan="4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d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nthi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yembekezo Chayera (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N 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da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kwa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fred Ja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KC 90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82E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u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nj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so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olomo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osephine Pindu (5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4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kanakaufit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u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nj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so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nedict Damson (5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KC 8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kanakaufi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kwa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 rowSpan="4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tch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nd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lorence Od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9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6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da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nj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kwa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97) Charl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KC  8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82E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u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so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ter Msow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6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da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kwa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y Mkun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KC  8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82E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nj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so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sipe action group _November 201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Users\Regis\Desktop\pictures_house\101MSDCF\DSC04769.JPG"/>
          <p:cNvPicPr/>
          <p:nvPr/>
        </p:nvPicPr>
        <p:blipFill>
          <a:blip r:embed="rId1"/>
          <a:stretch/>
        </p:blipFill>
        <p:spPr>
          <a:xfrm>
            <a:off x="928800" y="1249200"/>
            <a:ext cx="65894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versification …intensific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85920" y="2071800"/>
            <a:ext cx="335772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rop diversification as one of the major themes of the ‘mother and baby’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Users\Regis\Desktop\DSC05099.JPG"/>
          <p:cNvPicPr/>
          <p:nvPr/>
        </p:nvPicPr>
        <p:blipFill>
          <a:blip r:embed="rId1"/>
          <a:stretch/>
        </p:blipFill>
        <p:spPr>
          <a:xfrm>
            <a:off x="393840" y="1643040"/>
            <a:ext cx="567828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Doubled-up legum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– intercropping 2 legumes that are complementary/have little competition for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Users\Regis\Desktop\DSC05020.JPG"/>
          <p:cNvPicPr/>
          <p:nvPr/>
        </p:nvPicPr>
        <p:blipFill>
          <a:blip r:embed="rId1"/>
          <a:stretch/>
        </p:blipFill>
        <p:spPr>
          <a:xfrm>
            <a:off x="1000080" y="1857240"/>
            <a:ext cx="6775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714680" y="2857680"/>
            <a:ext cx="1904760" cy="952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Corporate Comms\Downloads\icrisat_logo.jpg"/>
          <p:cNvPicPr/>
          <p:nvPr/>
        </p:nvPicPr>
        <p:blipFill>
          <a:blip r:embed="rId2"/>
          <a:stretch/>
        </p:blipFill>
        <p:spPr>
          <a:xfrm>
            <a:off x="1214280" y="857160"/>
            <a:ext cx="1981440" cy="627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Users\Corporate Comms\Downloads\IFPRI logo (green).jpg"/>
          <p:cNvPicPr/>
          <p:nvPr/>
        </p:nvPicPr>
        <p:blipFill>
          <a:blip r:embed="rId3"/>
          <a:stretch/>
        </p:blipFill>
        <p:spPr>
          <a:xfrm>
            <a:off x="6357960" y="2143080"/>
            <a:ext cx="838080" cy="1317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4"/>
          <a:stretch/>
        </p:blipFill>
        <p:spPr>
          <a:xfrm>
            <a:off x="3857760" y="714240"/>
            <a:ext cx="1290600" cy="3973680"/>
          </a:xfrm>
          <a:prstGeom prst="rect">
            <a:avLst/>
          </a:prstGeom>
          <a:ln w="0">
            <a:noFill/>
          </a:ln>
        </p:spPr>
      </p:pic>
      <p:sp>
        <p:nvSpPr>
          <p:cNvPr id="96" name="Title 1"/>
          <p:cNvSpPr/>
          <p:nvPr/>
        </p:nvSpPr>
        <p:spPr>
          <a:xfrm rot="16200000">
            <a:off x="-757080" y="2614320"/>
            <a:ext cx="3071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LUAN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le 1"/>
          <p:cNvSpPr/>
          <p:nvPr/>
        </p:nvSpPr>
        <p:spPr>
          <a:xfrm>
            <a:off x="1714680" y="5072040"/>
            <a:ext cx="68580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Malawi Agric Extension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5143680" y="928800"/>
            <a:ext cx="308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CI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tle 1"/>
          <p:cNvSpPr/>
          <p:nvPr/>
        </p:nvSpPr>
        <p:spPr>
          <a:xfrm>
            <a:off x="5286240" y="3929040"/>
            <a:ext cx="27860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ICRA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reat mixture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:\Users\Regis\Desktop\pictures_house\101MSDCF\DSC05127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ize +pigeon p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C:\Users\Regis\Desktop\pictures_house\101MSDCF\DSC05007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fter harvesting companion crop, pigeon pea continues grow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..and produces its own gr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... plus soil fertility replenish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vestock =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11548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od and nutritional sec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C:\Users\Regis\Pictures\20-03-2013\DSC05133.JPG"/>
          <p:cNvPicPr/>
          <p:nvPr/>
        </p:nvPicPr>
        <p:blipFill>
          <a:blip r:embed="rId1"/>
          <a:stretch/>
        </p:blipFill>
        <p:spPr>
          <a:xfrm>
            <a:off x="357120" y="1500120"/>
            <a:ext cx="5346720" cy="3571920"/>
          </a:xfrm>
          <a:prstGeom prst="rect">
            <a:avLst/>
          </a:prstGeom>
          <a:ln w="0">
            <a:noFill/>
          </a:ln>
        </p:spPr>
      </p:pic>
      <p:sp>
        <p:nvSpPr>
          <p:cNvPr id="150" name="Title 1"/>
          <p:cNvSpPr/>
          <p:nvPr/>
        </p:nvSpPr>
        <p:spPr>
          <a:xfrm>
            <a:off x="5929200" y="1571760"/>
            <a:ext cx="300060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yabean has the best per capita protein production compared to any known agricultural enterpris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9917280" y="636480"/>
            <a:ext cx="2286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r capita protein production through soya can remains supr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onde = soil organic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C:\Users\Regis\Desktop\pictures_house\101MSDCF\DSC05126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87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posing farmers to agric intensification technologies ...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Regis\Pictures\20-03-2013\DSC05141.JPG"/>
          <p:cNvPicPr/>
          <p:nvPr/>
        </p:nvPicPr>
        <p:blipFill>
          <a:blip r:embed="rId1"/>
          <a:stretch/>
        </p:blipFill>
        <p:spPr>
          <a:xfrm>
            <a:off x="928800" y="185724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214560" y="-360"/>
            <a:ext cx="964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.. and IITA, USAID, and MSU administrators in the field to see our intensification ideas at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C:\Users\Regis\Desktop\DSC05113.JPG"/>
          <p:cNvPicPr/>
          <p:nvPr/>
        </p:nvPicPr>
        <p:blipFill>
          <a:blip r:embed="rId1"/>
          <a:srcRect l="10855" t="20381" r="0" b="0"/>
          <a:stretch/>
        </p:blipFill>
        <p:spPr>
          <a:xfrm>
            <a:off x="0" y="1357200"/>
            <a:ext cx="92203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400" y="1499760"/>
            <a:ext cx="8281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Agro-ecological intensification of smallholder agriculture through action resea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rmgard in Linthipe, Dedza  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C:\Users\Regis\Desktop\pictures_house\101MSDCF\DSC05109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.... Farmers and researchers determine yields togeth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Postharvest issue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flatoxin contamination worsened by storage of grain at high moisture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rain moisture and aflatoxin – can we invest in moisture me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or but happy at last 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C:\Users\Regis\Desktop\DSC04972.JPG"/>
          <p:cNvPicPr/>
          <p:nvPr/>
        </p:nvPicPr>
        <p:blipFill>
          <a:blip r:embed="rId1"/>
          <a:stretch/>
        </p:blipFill>
        <p:spPr>
          <a:xfrm>
            <a:off x="1184400" y="1600200"/>
            <a:ext cx="64800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 invest in training ex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C:\Users\Regis\Desktop\pictures_house\101MSDCF\DSC04676.JPG"/>
          <p:cNvPicPr/>
          <p:nvPr/>
        </p:nvPicPr>
        <p:blipFill>
          <a:blip r:embed="rId1"/>
          <a:stretch/>
        </p:blipFill>
        <p:spPr>
          <a:xfrm>
            <a:off x="1285920" y="1285920"/>
            <a:ext cx="6804000" cy="5102280"/>
          </a:xfrm>
          <a:prstGeom prst="rect">
            <a:avLst/>
          </a:prstGeom>
          <a:ln w="0">
            <a:noFill/>
          </a:ln>
        </p:spPr>
      </p:pic>
      <p:sp>
        <p:nvSpPr>
          <p:cNvPr id="169" name="Title 1"/>
          <p:cNvSpPr/>
          <p:nvPr/>
        </p:nvSpPr>
        <p:spPr>
          <a:xfrm>
            <a:off x="1571760" y="4857840"/>
            <a:ext cx="6143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Calibri"/>
              </a:rPr>
              <a:t>Dedza, Nov 2012 workshop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760" y="221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70c0"/>
                </a:solidFill>
                <a:latin typeface="Arnprior"/>
              </a:rPr>
              <a:t>Dry bones can live again ..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C:\Users\Regis\Desktop\DSC05087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What we know…the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77888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mallholder farmers have traditionally developed </a:t>
            </a:r>
            <a:r>
              <a:rPr b="0" lang="en-GB" sz="3200" spc="-1" strike="noStrike">
                <a:solidFill>
                  <a:srgbClr val="cc0000"/>
                </a:solidFill>
                <a:latin typeface="Calibri"/>
              </a:rPr>
              <a:t>risk-avers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management practices in an effort to ensure meeting their </a:t>
            </a:r>
            <a:r>
              <a:rPr b="0" lang="en-GB" sz="3200" spc="-1" strike="noStrike">
                <a:solidFill>
                  <a:srgbClr val="cc0000"/>
                </a:solidFill>
                <a:latin typeface="Calibri"/>
              </a:rPr>
              <a:t>subsistence food nee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71680" y="3643200"/>
            <a:ext cx="770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actices are largely </a:t>
            </a:r>
            <a:r>
              <a:rPr b="0" lang="en-GB" sz="3200" spc="-1" strike="noStrike">
                <a:solidFill>
                  <a:srgbClr val="c0504d"/>
                </a:solidFill>
                <a:latin typeface="Calibri"/>
              </a:rPr>
              <a:t>sub-optimal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ven under </a:t>
            </a:r>
            <a:r>
              <a:rPr b="0" lang="en-GB" sz="3200" spc="-1" strike="noStrike">
                <a:solidFill>
                  <a:srgbClr val="c0504d"/>
                </a:solidFill>
                <a:latin typeface="Calibri"/>
              </a:rPr>
              <a:t>favourabl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climatic condi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intensification strategy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2000160"/>
            <a:ext cx="83581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duc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surplu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food in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favourabl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seasons and have less shocks in future bad seas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link between agricultural intensification and building of local safety nets in a changing cli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more resilient comm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Are technological options to achieve this available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071800" y="3428640"/>
            <a:ext cx="585792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558ed5"/>
                </a:solidFill>
                <a:latin typeface="Calibri"/>
              </a:rPr>
              <a:t>Yes/ou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Any problem then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400" y="1857240"/>
            <a:ext cx="87152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558ed5"/>
                </a:solidFill>
                <a:latin typeface="Calibri"/>
              </a:rPr>
              <a:t>Yes – inappropriate packaging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558ed5"/>
                </a:solidFill>
                <a:latin typeface="Calibri"/>
              </a:rPr>
              <a:t>Farmers fail to relate well with nice technolo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558ed5"/>
                </a:solidFill>
                <a:latin typeface="Calibri"/>
              </a:rPr>
              <a:t>inappropriate learning platform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en-GB" sz="3400" spc="-1" strike="noStrike">
                <a:solidFill>
                  <a:srgbClr val="558ed5"/>
                </a:solidFill>
                <a:latin typeface="Calibri"/>
              </a:rPr>
              <a:t>technologies coming as rigid packages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58ed5"/>
                </a:solidFill>
                <a:latin typeface="Calibri"/>
              </a:rPr>
              <a:t>Wholesome uptake unlik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58ed5"/>
                </a:solidFill>
                <a:latin typeface="Calibri"/>
              </a:rPr>
              <a:t>rigidity stifling local inno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760" y="1428840"/>
            <a:ext cx="8286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are the current biophysical and socio-economic constraints to increase quality, quantity and diversity of crop and livestock products? (RO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 are the agricultural technology options that are amenable to sustainable intensification and concurrently alleviate poverty, improve nutrition and ecosystem stability? (RO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effective are the different technological options under different biophysical and socioeconomic conditions in achieving  poverty alleviation, improve nutrition and ecosystem stability? (RO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are the major factors that determine farmers’ participation in field-based learning platforms and subsequent influence on their use of soil fertility and livestock production intensification technologies? (RO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are the key ingredients for effective co-learning,  technology adaptation, scaling and delivery to farmers in heterogeneous farming syste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7120" y="1857240"/>
            <a:ext cx="8229600" cy="21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2060"/>
                </a:solidFill>
                <a:latin typeface="Calibri"/>
              </a:rPr>
              <a:t>Making experimentation with farmers (action research) a joy ..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00:17:23Z</dcterms:created>
  <dc:creator>Regis</dc:creator>
  <dc:description/>
  <dc:language>en-US</dc:language>
  <cp:lastModifiedBy>USAID</cp:lastModifiedBy>
  <dcterms:modified xsi:type="dcterms:W3CDTF">2013-06-06T21:50:32Z</dcterms:modified>
  <cp:revision>164</cp:revision>
  <dc:subject/>
  <dc:title>Slide 1</dc:title>
</cp:coreProperties>
</file>